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36774"/>
        <c:axId val="62726891"/>
      </c:barChart>
      <c:catAx>
        <c:axId val="353367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26891"/>
        <c:crosses val="autoZero"/>
        <c:auto val="1"/>
        <c:lblAlgn val="ctr"/>
        <c:lblOffset val="100"/>
        <c:noMultiLvlLbl val="0"/>
      </c:catAx>
      <c:valAx>
        <c:axId val="627268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367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01B-22F5-48CB-8BE0-175D44FB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3E6-6E64-4375-A7DA-40389424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C3EE-4EC1-42EE-B837-F568DC57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B9C6-EBF1-49D4-9D78-5D5AACCE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9E0A-FB4A-4909-B590-14719740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21E-6A36-4DA0-ACBA-7DE480E4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8DAC-2C05-4DB7-97A0-AFCF5E04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721-15CF-4B2E-9034-D07B7EEC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CEB-405F-4C19-A739-8E81EFB3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0954-EDCF-4CFC-8011-DD6A5DF9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EF5-EFA3-400E-AB37-0FDFF3E5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3131-0B53-4723-B831-04CD8A2B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8020A-EF70-40BC-BE28-028A90DF4A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