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28930"/>
        <c:axId val="48889580"/>
      </c:barChart>
      <c:catAx>
        <c:axId val="26328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89580"/>
        <c:crosses val="autoZero"/>
        <c:auto val="1"/>
        <c:lblAlgn val="ctr"/>
        <c:lblOffset val="100"/>
        <c:noMultiLvlLbl val="0"/>
      </c:catAx>
      <c:valAx>
        <c:axId val="48889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28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702-014F-4E9F-BDC8-44BC05B5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D47-8E56-4295-B8D7-68EE372B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ED7-240C-41AE-8BAA-7E9B82DD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534-847D-4C74-A416-00CBE103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2C9-C7D4-4313-81F5-15CBE7A0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AC2-86A7-4918-AA08-D9C6A3BE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951-C152-4C2F-8AF0-7B61B171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733-EC30-41DF-ACC9-2301235D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CF5-EDB2-4CFC-ACF5-8E01C25C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592-8692-4FF5-9C41-57FAA91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808-0842-4D90-9258-D0F381F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02B-E47C-4088-8239-49BC80DE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EF597-1D22-4C96-9111-7464F8D0DC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